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3919-A17F-4E95-A53B-9C751B94C64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eometric shape with 20 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mbling a coiled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t may even have a different sha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,  Plants,  Bacteria (bacterioph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named by the disease they 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organism they in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nly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ype of cells - Attacks only cells with one type of re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cells of o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several relat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½ to 1/100 the size of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een with electron microscope, but not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ain DNA and/or R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ain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 reproduce, BUT only inside a hos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ble to mu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respire/ no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o NOT respond to stim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mentioned befo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roduces-- but only with help of host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eat, grow, respire, use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fits function well because there are only two parts to complete the entering of a host cell and reprodu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capsid and is made of protein molecules called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apsome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iruses also have an outer lipid layer they pick up from their host.  This is calle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RNA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or Double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veral genes to several hundred of g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ked or en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925-08AE-491E-AD87-022EFFB3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DA1-1101-4FFD-BA8A-800872E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BC3-D548-4B8B-BB25-B0553F2D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B2B-AE3A-404B-92B7-168635CC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BC2-AA56-4620-94DB-57F1A9D6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A15-8CAE-4FC2-829F-F8E6FD51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5B5-43BF-42BC-9168-F2D330EF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642-A15C-4476-844D-415FCD8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DC0-1886-4BB8-8CDD-D6A00DF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F9D-FA99-4509-B1E3-733AC80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A04-C928-4AFD-A1BB-2F26DCE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B9F-775C-4635-A30D-768B750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ACF7-13C9-4710-9895-E9359243E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Viruses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830592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s, Structures, Types, and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7120" y="3962160"/>
            <a:ext cx="17524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virus shap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makes these viruses different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68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  By the shape of the viru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94652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d by its caps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cosahed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el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2057400" cy="18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4440240"/>
            <a:ext cx="2361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 (continue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 by who they in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t Cell Specif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pecific--Thre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19920" y="2057400"/>
            <a:ext cx="2603520" cy="3600360"/>
            <a:chOff x="6019920" y="2057400"/>
            <a:chExt cx="2603520" cy="36003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019920" y="2057400"/>
              <a:ext cx="26035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6019920" y="2057400"/>
              <a:ext cx="260352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By how they in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A (2 ways),  RNA ,  Retrovir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2886" t="0" r="4597" b="8612"/>
          <a:stretch/>
        </p:blipFill>
        <p:spPr>
          <a:xfrm>
            <a:off x="5757840" y="2971800"/>
            <a:ext cx="33861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ral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NA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goes) to 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oins with host’s DN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NA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goes) straight to protein with use of host’s ribosomes (in the cytopla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enzy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verse transcripta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ts viral RNA to DN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new DNA can beco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t of host DNA or go to 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143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NA 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NA →DNA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NA→ integrated DNA→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vi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of virus re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sogenic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tic cyc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YSOGENIC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ogenic cycle – incorporates DNA into host’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D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rporate DNA into host cell’s chromosome (proph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icate as host cell replic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some point may disattach and complete the lyt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ttach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rus comes in contact with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ceptor sit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of host cell (specific host cell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rus attaches to cel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nject D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ect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ked virus injects nucleic acid into host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d viruses join with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4267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al DNA (or RNA) directs prote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al nucleic acid causes host cell to produce parts of 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267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us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most) Smallest biological p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only exist by infecting host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001" t="43432" r="14001" b="6004"/>
          <a:stretch/>
        </p:blipFill>
        <p:spPr>
          <a:xfrm>
            <a:off x="4572000" y="2286000"/>
            <a:ext cx="4038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l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cleic acid are inserted into caps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iruses are ready to be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4572000" cy="1828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590920"/>
            <a:ext cx="761760" cy="7617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590920"/>
            <a:ext cx="761760" cy="7617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4290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666880"/>
            <a:ext cx="738000" cy="54144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2666880"/>
            <a:ext cx="738000" cy="54144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81952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505320"/>
            <a:ext cx="738360" cy="54108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29718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048120"/>
            <a:ext cx="738360" cy="541080"/>
          </a:xfrm>
          <a:custGeom>
            <a:avLst/>
            <a:gdLst/>
            <a:ahLst/>
            <a:rect l="l" t="t" r="r" b="b"/>
            <a:pathLst>
              <a:path w="465" h="341">
                <a:moveTo>
                  <a:pt x="133" y="70"/>
                </a:moveTo>
                <a:cubicBezTo>
                  <a:pt x="164" y="65"/>
                  <a:pt x="292" y="39"/>
                  <a:pt x="310" y="70"/>
                </a:cubicBezTo>
                <a:cubicBezTo>
                  <a:pt x="335" y="114"/>
                  <a:pt x="302" y="172"/>
                  <a:pt x="298" y="223"/>
                </a:cubicBezTo>
                <a:cubicBezTo>
                  <a:pt x="204" y="194"/>
                  <a:pt x="193" y="204"/>
                  <a:pt x="74" y="223"/>
                </a:cubicBezTo>
                <a:cubicBezTo>
                  <a:pt x="78" y="243"/>
                  <a:pt x="73" y="267"/>
                  <a:pt x="86" y="282"/>
                </a:cubicBezTo>
                <a:cubicBezTo>
                  <a:pt x="96" y="294"/>
                  <a:pt x="117" y="292"/>
                  <a:pt x="133" y="294"/>
                </a:cubicBezTo>
                <a:cubicBezTo>
                  <a:pt x="188" y="300"/>
                  <a:pt x="243" y="302"/>
                  <a:pt x="298" y="306"/>
                </a:cubicBezTo>
                <a:cubicBezTo>
                  <a:pt x="341" y="298"/>
                  <a:pt x="404" y="319"/>
                  <a:pt x="427" y="282"/>
                </a:cubicBezTo>
                <a:cubicBezTo>
                  <a:pt x="465" y="221"/>
                  <a:pt x="315" y="205"/>
                  <a:pt x="298" y="200"/>
                </a:cubicBezTo>
                <a:cubicBezTo>
                  <a:pt x="143" y="157"/>
                  <a:pt x="325" y="183"/>
                  <a:pt x="74" y="165"/>
                </a:cubicBezTo>
                <a:cubicBezTo>
                  <a:pt x="100" y="148"/>
                  <a:pt x="118" y="121"/>
                  <a:pt x="145" y="106"/>
                </a:cubicBezTo>
                <a:cubicBezTo>
                  <a:pt x="169" y="93"/>
                  <a:pt x="232" y="78"/>
                  <a:pt x="263" y="70"/>
                </a:cubicBezTo>
                <a:cubicBezTo>
                  <a:pt x="282" y="74"/>
                  <a:pt x="304" y="72"/>
                  <a:pt x="321" y="82"/>
                </a:cubicBezTo>
                <a:cubicBezTo>
                  <a:pt x="333" y="89"/>
                  <a:pt x="335" y="108"/>
                  <a:pt x="345" y="118"/>
                </a:cubicBezTo>
                <a:cubicBezTo>
                  <a:pt x="371" y="144"/>
                  <a:pt x="392" y="144"/>
                  <a:pt x="427" y="153"/>
                </a:cubicBezTo>
                <a:cubicBezTo>
                  <a:pt x="431" y="165"/>
                  <a:pt x="439" y="176"/>
                  <a:pt x="439" y="188"/>
                </a:cubicBezTo>
                <a:cubicBezTo>
                  <a:pt x="439" y="224"/>
                  <a:pt x="448" y="266"/>
                  <a:pt x="427" y="294"/>
                </a:cubicBezTo>
                <a:cubicBezTo>
                  <a:pt x="402" y="327"/>
                  <a:pt x="273" y="337"/>
                  <a:pt x="239" y="341"/>
                </a:cubicBezTo>
                <a:cubicBezTo>
                  <a:pt x="223" y="337"/>
                  <a:pt x="205" y="339"/>
                  <a:pt x="192" y="329"/>
                </a:cubicBezTo>
                <a:cubicBezTo>
                  <a:pt x="182" y="321"/>
                  <a:pt x="180" y="306"/>
                  <a:pt x="180" y="294"/>
                </a:cubicBezTo>
                <a:cubicBezTo>
                  <a:pt x="180" y="167"/>
                  <a:pt x="179" y="180"/>
                  <a:pt x="204" y="106"/>
                </a:cubicBezTo>
                <a:cubicBezTo>
                  <a:pt x="144" y="65"/>
                  <a:pt x="82" y="83"/>
                  <a:pt x="16" y="106"/>
                </a:cubicBezTo>
                <a:cubicBezTo>
                  <a:pt x="12" y="118"/>
                  <a:pt x="0" y="130"/>
                  <a:pt x="4" y="141"/>
                </a:cubicBezTo>
                <a:cubicBezTo>
                  <a:pt x="21" y="184"/>
                  <a:pt x="215" y="188"/>
                  <a:pt x="216" y="188"/>
                </a:cubicBezTo>
                <a:cubicBezTo>
                  <a:pt x="220" y="172"/>
                  <a:pt x="227" y="157"/>
                  <a:pt x="227" y="141"/>
                </a:cubicBezTo>
                <a:cubicBezTo>
                  <a:pt x="227" y="77"/>
                  <a:pt x="190" y="103"/>
                  <a:pt x="251" y="82"/>
                </a:cubicBezTo>
                <a:cubicBezTo>
                  <a:pt x="259" y="70"/>
                  <a:pt x="272" y="61"/>
                  <a:pt x="274" y="47"/>
                </a:cubicBezTo>
                <a:cubicBezTo>
                  <a:pt x="282" y="1"/>
                  <a:pt x="233" y="0"/>
                  <a:pt x="2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roduc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.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t cell membrane breaks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are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3224160"/>
            <a:ext cx="5943600" cy="2786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6680" y="49528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ook Antiqua"/>
              </a:rPr>
              <a:t>LYT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Reproduction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eloped viruses move through cell membrane, taking some of the cell’s membrane with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3152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jor viral disease treatment factoi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viral disease has ever been CURED by medical treatm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are not susceptible to ANTIBIOTICS. If a doctor tells you he/she is treating your VIRUS INFECTION with an antibiotic, he/she is either stupid or lying and you should seek more competent medical ad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effective tool is prevention (immuniz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Vacc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14th May 1796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ward Jen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sed cowpox-infected material obtained from the hand of Sarah Nemes, a milkmaid from his home village of Berkley in Gloucestershire to successfully vaccinate 8 year old James Phipps. On 1st July 1796, Jenner challenged the boy by deliberately inoculating him with material from a real case of smallpox 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029200" cy="4039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 did not become infected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 viruses aliv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7162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85840" y="4266720"/>
            <a:ext cx="5181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us Characteristics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ruses are considered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Times New Roman"/>
              </a:rPr>
              <a:t>nonli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, but not all characteristics of l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380988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viruses have two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cleic acid c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tein coat called 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ps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0292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s of a generic vi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5116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2438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terioph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ses without an envelope are known as naked vi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4952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xtra structures does this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53552" r="0" b="0"/>
          <a:stretch/>
        </p:blipFill>
        <p:spPr>
          <a:xfrm>
            <a:off x="0" y="0"/>
            <a:ext cx="88390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us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Flu Virus"/>
          <p:cNvPicPr/>
          <p:nvPr/>
        </p:nvPicPr>
        <p:blipFill>
          <a:blip r:embed="rId1"/>
          <a:srcRect l="0" t="0" r="0" b="6002"/>
          <a:stretch/>
        </p:blipFill>
        <p:spPr>
          <a:xfrm>
            <a:off x="4267080" y="29718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ral Class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By the type of nucle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By what type of outer covering they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248520" y="477720"/>
            <a:ext cx="2819160" cy="256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60494" r="47148" b="0"/>
          <a:stretch/>
        </p:blipFill>
        <p:spPr>
          <a:xfrm>
            <a:off x="217440" y="4952880"/>
            <a:ext cx="1806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5:49:18Z</dcterms:created>
  <dc:creator>Alain Milotti</dc:creator>
  <dc:description/>
  <dc:language>en-US</dc:language>
  <cp:lastModifiedBy>Tricia</cp:lastModifiedBy>
  <dcterms:modified xsi:type="dcterms:W3CDTF">2007-05-03T13:15:47Z</dcterms:modified>
  <cp:revision>45</cp:revision>
  <dc:subject/>
  <dc:title>Viruses</dc:title>
</cp:coreProperties>
</file>